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A9FC-8E31-49ED-B368-A155D25D52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E04F-1790-485F-87E6-C691511F743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2CE6-3AAD-4140-B0D8-BCE0AFE3EC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4258-CEFA-4F89-8D98-1DCCD3C158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E2A1-A1A7-4974-8C3C-38C13C6ED4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9D5C-943A-4C71-BA39-B7821DC6CF8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F9C6-C282-4EB5-9BC5-EC547C33AD3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A488-1909-4C32-A7A8-32877DFAF05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5502-8980-45D5-B0D7-637D67B232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40C8-C64A-4905-90D1-1C6F038F384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A1D2-5554-4A41-AB96-B097B678777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7CDF-E53F-4C91-95A0-536B30A68B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52FD-B6C0-43AD-A755-9393101BC9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16A7-68ED-4395-A0BD-2018E2393F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0759-3847-4B17-841D-F3E14A3A987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C0A4-3BD1-4BC5-947F-2A9CBDBB26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06AB-B43A-43CD-B4D5-022A7616ED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7E6C-B98A-48CB-82B4-1567867F602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6CB4-7AE2-4793-9BB2-C63CF4640C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4A7C-4A2C-45BE-861F-B56732A5915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222-AF1E-4B0E-921A-F1E6D0D3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B76B-2B04-4105-AA73-9753E3AB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2E42-F862-4B06-B212-458DEF21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5C9A-7E6A-4791-AE29-AAB2EC4F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4DEB-B013-4F83-8A3F-C2582623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6C15-5F6D-45AE-97AF-0B9F9629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1F60-E906-47C2-AC01-B287A726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757E-A335-4D0A-A3DD-F857E2ED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7211-17B0-4437-93AB-F86EA648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A21B-FB6D-4D5A-8954-CB965846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FCD-6344-44FB-8C16-AD2CF052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F6C8-05C3-43D7-A3A1-C3CEE339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E1AB-2B89-4F0E-B6B8-F35473412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468360" y="6024600"/>
          <a:ext cx="6335640" cy="83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6024600"/>
                    <a:ext cx="633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mvk.cz/rp" TargetMode="External"/><Relationship Id="rId3" Type="http://schemas.openxmlformats.org/officeDocument/2006/relationships/hyperlink" Target="http://www.mvk.cz/rp" TargetMode="External"/><Relationship Id="rId4" Type="http://schemas.openxmlformats.org/officeDocument/2006/relationships/hyperlink" Target="http://www.mvk.cz/rp" TargetMode="External"/><Relationship Id="rId5" Type="http://schemas.openxmlformats.org/officeDocument/2006/relationships/hyperlink" Target="http://www.mvk.cz/rp" TargetMode="External"/><Relationship Id="rId6" Type="http://schemas.openxmlformats.org/officeDocument/2006/relationships/hyperlink" Target="http://www.mvk.cz/rp" TargetMode="External"/><Relationship Id="rId7" Type="http://schemas.openxmlformats.org/officeDocument/2006/relationships/hyperlink" Target="http://www.mvk.cz/rp" TargetMode="Externa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ppt-úvodní strana"/>
          <p:cNvPicPr/>
          <p:nvPr/>
        </p:nvPicPr>
        <p:blipFill>
          <a:blip r:embed="rId1"/>
          <a:stretch/>
        </p:blipFill>
        <p:spPr>
          <a:xfrm>
            <a:off x="-12600" y="0"/>
            <a:ext cx="9177120" cy="5497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432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240280" y="3268800"/>
            <a:ext cx="67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ečná konference - duben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10"/>
          <p:cNvGraphicFramePr/>
          <p:nvPr/>
        </p:nvGraphicFramePr>
        <p:xfrm>
          <a:off x="250920" y="5929200"/>
          <a:ext cx="7057800" cy="9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5929200"/>
                    <a:ext cx="70578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7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4"/>
          <a:stretch/>
        </p:blipFill>
        <p:spPr>
          <a:xfrm>
            <a:off x="142920" y="3357720"/>
            <a:ext cx="13572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F:\2009\Projekt Rovné příležitosti\září 09 PC kurz\P1010289x.jpg"/>
          <p:cNvPicPr/>
          <p:nvPr/>
        </p:nvPicPr>
        <p:blipFill>
          <a:blip r:embed="rId2"/>
          <a:stretch/>
        </p:blipFill>
        <p:spPr>
          <a:xfrm>
            <a:off x="214200" y="142884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F:\2009\Projekt Rovné příležitosti\září 09 PC kurz\P1010264x.jpg"/>
          <p:cNvPicPr/>
          <p:nvPr/>
        </p:nvPicPr>
        <p:blipFill>
          <a:blip r:embed="rId3"/>
          <a:stretch/>
        </p:blipFill>
        <p:spPr>
          <a:xfrm>
            <a:off x="4429080" y="25718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proběh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tivace zaměstnavatelů a prosazování prorodinné politiky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region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ťoval partner AE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x  konference pro zaměstna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x dotazníkové šetření pro zaměstnavate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x konference rodinných a mateřských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34920" y="9828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ference pro zaměstnav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F:\2009\Projekt Rovné příležitosti\09_12_02Konference AERV\fotbal a konference 170x.jpg"/>
          <p:cNvPicPr/>
          <p:nvPr/>
        </p:nvPicPr>
        <p:blipFill>
          <a:blip r:embed="rId3"/>
          <a:stretch/>
        </p:blipFill>
        <p:spPr>
          <a:xfrm>
            <a:off x="179280" y="1413000"/>
            <a:ext cx="3961080" cy="297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F:\2009\Projekt Rovné příležitosti\09_12_02Konference AERV\fotbal a konference 182x.jpg"/>
          <p:cNvPicPr/>
          <p:nvPr/>
        </p:nvPicPr>
        <p:blipFill>
          <a:blip r:embed="rId4"/>
          <a:stretch/>
        </p:blipFill>
        <p:spPr>
          <a:xfrm>
            <a:off x="4356000" y="2781360"/>
            <a:ext cx="41896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  <p:sp>
        <p:nvSpPr>
          <p:cNvPr id="109" name="TextovéPole 7"/>
          <p:cNvSpPr/>
          <p:nvPr/>
        </p:nvSpPr>
        <p:spPr>
          <a:xfrm>
            <a:off x="611280" y="177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ference mateřských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F:\2010\PROJEKT ŽENY A MUŽI V KOMUNITNÍ KNIHOVNĚ\10_10_21KonferenceRP_DK\P1000423.JPG"/>
          <p:cNvPicPr/>
          <p:nvPr/>
        </p:nvPicPr>
        <p:blipFill>
          <a:blip r:embed="rId3"/>
          <a:stretch/>
        </p:blipFill>
        <p:spPr>
          <a:xfrm>
            <a:off x="3276720" y="1916280"/>
            <a:ext cx="5184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0" y="98280"/>
            <a:ext cx="70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968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blematika slaďování profesního a rodinného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života v povědomí veřejnosti a místní komunity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ťoval partner SPK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vodní přednáška „GENDER -  co to je za slovo a jaký má význam?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ým kampa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ení – dobrovolníci a dobrovol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elné schůzky – příprava happeningu, výstavy fotograf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aní článk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ávání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appening „Jsme si rovni“ na Dolním námě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tava fotografií „Velké prádlo aneb bourání stereotypů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y – co probí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F:\2010\PROJEKT ŽENY A MUŽI V KOMUNITNÍ KNIHOVNĚ\10_05_13Happening Jsme si rovni\michal fotky\1\DSC_0756x.jpg"/>
          <p:cNvPicPr/>
          <p:nvPr/>
        </p:nvPicPr>
        <p:blipFill>
          <a:blip r:embed="rId3"/>
          <a:stretch/>
        </p:blipFill>
        <p:spPr>
          <a:xfrm>
            <a:off x="3851280" y="2637000"/>
            <a:ext cx="5113440" cy="34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F:\2010\PROJEKT ŽENY A MUŽI V KOMUNITNÍ KNIHOVNĚ\Týmkampaně\30.3.2010\P1020921x.jpg"/>
          <p:cNvPicPr/>
          <p:nvPr/>
        </p:nvPicPr>
        <p:blipFill>
          <a:blip r:embed="rId4"/>
          <a:stretch/>
        </p:blipFill>
        <p:spPr>
          <a:xfrm>
            <a:off x="250920" y="1557360"/>
            <a:ext cx="35528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y – co probí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F:\2010\PROJEKT ŽENY A MUŽI V KOMUNITNÍ KNIHOVNĚ\10_05_13Happening Jsme si rovni\michal fotky\1\DSC_0795x.jpg"/>
          <p:cNvPicPr/>
          <p:nvPr/>
        </p:nvPicPr>
        <p:blipFill>
          <a:blip r:embed="rId3"/>
          <a:stretch/>
        </p:blipFill>
        <p:spPr>
          <a:xfrm>
            <a:off x="4284720" y="3044880"/>
            <a:ext cx="4341600" cy="2905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F:\2010\PROJEKT ŽENY A MUŽI V KOMUNITNÍ KNIHOVNĚ\10_05_13Happening Jsme si rovni\michal fotky\1\DSC_0774x.jpg"/>
          <p:cNvPicPr/>
          <p:nvPr/>
        </p:nvPicPr>
        <p:blipFill>
          <a:blip r:embed="rId4"/>
          <a:stretch/>
        </p:blipFill>
        <p:spPr>
          <a:xfrm>
            <a:off x="324000" y="1484280"/>
            <a:ext cx="388764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800" y="9828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F:\2010\PROJEKT ŽENY A MUŽI V KOMUNITNÍ KNIHOVNĚ\Výstava_Aktivní otcovství\P1030803.JPG"/>
          <p:cNvPicPr/>
          <p:nvPr/>
        </p:nvPicPr>
        <p:blipFill>
          <a:blip r:embed="rId3"/>
          <a:stretch/>
        </p:blipFill>
        <p:spPr>
          <a:xfrm>
            <a:off x="179280" y="1484280"/>
            <a:ext cx="3649680" cy="2736720"/>
          </a:xfrm>
          <a:prstGeom prst="rect">
            <a:avLst/>
          </a:prstGeom>
          <a:ln w="0">
            <a:noFill/>
          </a:ln>
        </p:spPr>
      </p:pic>
      <p:sp>
        <p:nvSpPr>
          <p:cNvPr id="132" name="TextovéPole 8"/>
          <p:cNvSpPr/>
          <p:nvPr/>
        </p:nvSpPr>
        <p:spPr>
          <a:xfrm>
            <a:off x="3924360" y="1484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stava „Aktivní otcovství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F:\2011\ROVNÉ PŘÍLEŽITOSTI_PROJEKTU ESF\Výstava Velké prádlo\IMAG0051x.jpg"/>
          <p:cNvPicPr/>
          <p:nvPr/>
        </p:nvPicPr>
        <p:blipFill>
          <a:blip r:embed="rId4"/>
          <a:stretch/>
        </p:blipFill>
        <p:spPr>
          <a:xfrm>
            <a:off x="4284720" y="3141720"/>
            <a:ext cx="4286160" cy="2566800"/>
          </a:xfrm>
          <a:prstGeom prst="rect">
            <a:avLst/>
          </a:prstGeom>
          <a:ln w="0">
            <a:noFill/>
          </a:ln>
        </p:spPr>
      </p:pic>
      <p:sp>
        <p:nvSpPr>
          <p:cNvPr id="134" name="TextovéPole 8"/>
          <p:cNvSpPr/>
          <p:nvPr/>
        </p:nvSpPr>
        <p:spPr>
          <a:xfrm>
            <a:off x="1476360" y="5445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stava „Velké prá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4920" y="18900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ánky projektu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vk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iskové zprávy, čl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pagační materi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og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C:\Users\Katka\Documents\KATKA\KATKA\Ženy a muži v komunitní knihovně - projekt RP říjen 08\Publicita\Loga\symbol_rovnost_sbaleno\jpeg\logo_plnobarevne.jpg"/>
          <p:cNvPicPr/>
          <p:nvPr/>
        </p:nvPicPr>
        <p:blipFill>
          <a:blip r:embed="rId8"/>
          <a:stretch/>
        </p:blipFill>
        <p:spPr>
          <a:xfrm>
            <a:off x="3000240" y="3714840"/>
            <a:ext cx="34531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ppt-úvodní strana"/>
          <p:cNvPicPr/>
          <p:nvPr/>
        </p:nvPicPr>
        <p:blipFill>
          <a:blip r:embed="rId1"/>
          <a:stretch/>
        </p:blipFill>
        <p:spPr>
          <a:xfrm>
            <a:off x="-12600" y="0"/>
            <a:ext cx="9177120" cy="5497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432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ěkuji za pozorno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10880" y="494352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arykova veřejná knihovna Vset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17360" y="540216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ww.mvk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vk@vs.inex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411280" y="54021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 412 1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0 449 4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800" y="98280"/>
            <a:ext cx="7009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einvestiční proje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96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elý název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Rovné příležitosti žen a mužů v komunitní knihovně Vsetín - partnerství a zdravá komunita - celoživotní vzdělávání – prosperi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zpočet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.038.345,92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armonogram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ervenec 2009 - červe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lavní cíl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oci ženám ohroženým z různých důvodů na trhu práce (a mužům ve stejné situaci)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38960" y="1285920"/>
            <a:ext cx="9050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pt-horní pruh logo"/>
          <p:cNvPicPr/>
          <p:nvPr/>
        </p:nvPicPr>
        <p:blipFill>
          <a:blip r:embed="rId1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4840" y="0"/>
            <a:ext cx="534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tační program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ční progra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dské zdroje a zaměstnan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PS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ní os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ální integrace a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ast podpor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vné příležitosti žen a mužů na trhu práce a sladění pracovního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79280" y="1413000"/>
            <a:ext cx="84963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285920"/>
            <a:ext cx="85716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800" y="4932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64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avním cílem projektu 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moci ženám ohroženým z různých důvodů na trhu práce (a mužům ve stejné situaci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za pomoci vytvoření partnerství mezi vybranými institucemi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 místě ovlivnit vnímání problematiky rovných příležitostí žen a mužů v okrese Vsetí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357200"/>
            <a:ext cx="698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1800" y="18900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507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ouhodobě nezaměstnané ženy - muž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podobné situaci (na MD, 50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městnavatel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N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285920"/>
            <a:ext cx="7682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rtnerské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sto Vsetí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dinné a mateřské centrum Sluníčko Vse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nost pro komunitní práci Vse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gentura pro ekonomický rozvoj Vsetín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zká spolupráce s Úřadem práce Vsetín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53360" y="1285920"/>
            <a:ext cx="890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800" y="4932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ělávání osob ohrožených na trhu práce (včetně doprovodných opatř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tivace zaměstnavatelů a prosazování prorodinné politi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egio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sazování problematiky slaďování profesního a rodinného života v povědomí veřejnosti a míst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proběh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13840" y="1428480"/>
            <a:ext cx="875052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zdělávání osob ohrožených na trh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zykové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atické kurzy – Ekonomické minimum, Technika administrativy, Právní minimum, Ekologie a dal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obnostní výcvik a psychosociální motivační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rovodná opatření – hlídání dětí a příspěvek na dopr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lmi dobrá spolupráce s ÚP Vsetín i R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ční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jení, výměna zkušeností (mladé maminky, ženy ve věku 50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ěhlo 70 kurzů, ve kterých bylo proškoleno přes 600 os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07360" y="1285920"/>
            <a:ext cx="836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F:\2009\Projekt Rovné příležitosti\Jazykové kurzy\P1010358x.jpg"/>
          <p:cNvPicPr/>
          <p:nvPr/>
        </p:nvPicPr>
        <p:blipFill>
          <a:blip r:embed="rId2"/>
          <a:stretch/>
        </p:blipFill>
        <p:spPr>
          <a:xfrm>
            <a:off x="142920" y="1571760"/>
            <a:ext cx="4095720" cy="3071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F:\2009\Projekt Rovné příležitosti\Jazykové kurzy\P1010355x.jpg"/>
          <p:cNvPicPr/>
          <p:nvPr/>
        </p:nvPicPr>
        <p:blipFill>
          <a:blip r:embed="rId3"/>
          <a:stretch/>
        </p:blipFill>
        <p:spPr>
          <a:xfrm>
            <a:off x="4429080" y="2357280"/>
            <a:ext cx="44769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3:40:35Z</dcterms:created>
  <dc:creator>uživatel</dc:creator>
  <dc:description/>
  <dc:language>en-US</dc:language>
  <cp:lastModifiedBy>Haisová</cp:lastModifiedBy>
  <dcterms:modified xsi:type="dcterms:W3CDTF">2011-07-25T07:05:13Z</dcterms:modified>
  <cp:revision>128</cp:revision>
  <dc:subject/>
  <dc:title>Nadpis prezentace</dc:title>
</cp:coreProperties>
</file>